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B82-AA68-4380-8D19-406DAD48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178-3CF8-4299-9B86-BCB95149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DA8-D842-4703-981E-F36501F7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9B5-9C1E-4DD5-949D-6DDD31AC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F96-4FD5-4505-ABA0-0F6B279C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469-67C7-4A0E-BAD6-9D471AB4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608-023A-44D4-AC28-2DB3E16B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25D-547A-454F-B736-502D5021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BE2-E808-46BF-8D4D-AC01A643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221-F37C-4D14-9092-783ED55A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776-ED7F-4D44-B6DF-77BB9BD0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BED-D02C-4E16-86F8-29477EE3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E323-262D-487B-B734-D33647090F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t.b.v. interviewen innove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act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mpat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ntact opbouw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orte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soorten vrag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755640" y="2533680"/>
            <a:ext cx="53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, gesloten en keuze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recte en indirect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e of lineair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lectiev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torisch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ypothetische v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terviewstij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r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n-dir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goede interviewer past beide flexibel to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Arial"/>
              </a:rPr>
              <a:t>Succe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re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viewstij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 geïnterview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 van het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informatie in één gesprek verzam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nticipatie tijdens gesp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aardering (medewerking) van geïnterview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euze geïnterviewde (algem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is je doelstell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is het meest geschikt of informatie te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itie in bedrijf/functie maatschappij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 in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ak maken (neutrale plaat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fd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oor ogen (fuik/omgekeerde fu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v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strak opvo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bouw van het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l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ings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 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 onde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 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vr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va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l bew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ventueel confronteren (nooit suggestief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ndig laatste vraag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v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dan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ebeurt er met het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de geïnterviewde merken dat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t, 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ïnteresseerd bent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m/haar waard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uistervaardighed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e open ho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n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m-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h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afras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vat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uistervaardighed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57:21Z</dcterms:created>
  <dc:creator>Robert Onderstijn</dc:creator>
  <dc:description/>
  <dc:language>en-US</dc:language>
  <cp:lastModifiedBy>Herma</cp:lastModifiedBy>
  <dcterms:modified xsi:type="dcterms:W3CDTF">2011-06-21T13:21:37Z</dcterms:modified>
  <cp:revision>5</cp:revision>
  <dc:subject/>
  <dc:title>Interviewtechniek HLB24</dc:title>
</cp:coreProperties>
</file>